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21.jpeg" ContentType="image/jpeg"/>
  <Override PartName="/ppt/media/image16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E7EFC-DEF1-4C54-9B83-9AA2707AB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B2931-A8E4-4E5F-A31E-38BED713D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BBF638F-2639-454C-985A-72B3B12D8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359D463-F133-46B4-86B1-385BAECA6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635F629-69EA-4CCA-AF7F-C230ACD71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F20EF57-FF2C-4A2F-ABB2-FA845920B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6A22509-356C-4199-AB98-7CDC8AE40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E38705A-69C8-404D-BB31-C0E68292F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3CD8E02-A6EF-4741-B3D5-23345D75D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9DD45AA-E7E0-477B-9E82-25E088905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24406E6-B75A-4C60-8182-B7B01B800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9FC49B-AEB5-42BE-9C05-EB7412B1D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F22F1-4EEB-41C1-A9D6-8DCD0DDC5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4FF721-016D-41CB-9215-F74356B55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0CE313-DC41-4BF4-BA7A-E4A1BFCBC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52D789-0FC0-427A-B19E-264E86CDC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BA4A46-321E-415A-BF1E-5428DB6DA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6869BF-11DB-43D1-9D57-2530BE234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A03534-C176-4F43-84D6-5DAA0CE8A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5F843E-2609-40E7-8A90-1D093C5F8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735C8D-2E7B-4E24-98AC-EA62A8333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A36D1F-4185-4E21-B9AB-C82582DB5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E6B38C-D938-4FEE-937A-6F1700558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2684F-6593-4BB6-A44C-ACEB2BCF9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74D1B0-798E-42BE-9047-1877A62F9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9190DD9-167F-492F-8C48-D5763E0C7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4F283F3-803C-46A6-BF66-B3C43B254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C9A5302-1029-47AE-BB93-9C0C8335B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31B0D03-4BCF-4085-AEA2-FB202E1F0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709F379-29CC-46CA-AE16-7F5044729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DD31CC5-C6F0-46C0-B98F-AC22A432B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9BC099D-ACC4-4E4B-9585-58B4B40A8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66736CE-E2F2-4EBF-86D8-3836B3B34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DBD84B1-B1F5-426D-A49F-BC87269AD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78B2D-A94E-448F-BA90-D143D64B7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ACF1B67-8507-46E7-8204-43C38121B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0E3994C-3A3B-4FF6-B597-E57CFB76F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704D203-B6C7-464C-9BC4-0A706BAD7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C5106F-C6FA-4A65-A985-1CAFA6EE5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8865A6-1DFA-47FC-809C-310B7EAAC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B7DFC8-6536-4BA6-AF18-0EC285A2B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45D9CA-1C1F-4755-8CCC-92210BB94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FCF3CA-ED02-46CA-9A06-8085584C5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303FBE-5875-43BB-B871-C746F6384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31DCA5-C194-486D-A38F-A348E77E6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4ACA6-BE42-4C77-8403-4510B9845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13F2B1-1886-4457-ACA8-842EF8794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F9382E-1E21-4291-8BDE-9A89FABCB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1EE880-12BD-4980-B43C-C55BAECB6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C87A62-C6ED-4304-A81B-CC63D9D41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6FB8FD-58AA-4C0D-8D4D-897338CAB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C00D1-D52D-4D4E-A3B7-4D9AC5F02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ED343-32D8-4D11-A508-FE9DCC112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E131C-BF77-4028-BF3E-2B178FF7D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AB57B-009C-4B84-B18C-68320D91F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A9E5A-12DB-4651-8498-AADEB04E8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3C19F-0948-42CB-8C33-2AD37373D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B2F98-D0E5-4F08-AC03-7D779737B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30705-83C0-4B62-BA45-CDB812295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4A476-C912-4A08-A2A1-BE0330922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3761C-A4F9-4CDB-A63F-E3766BFFC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185AA-C2CF-4DA3-8C75-242EC1D5E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9A4573-FD1D-496F-9EDE-10F704219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A3D3A4-CBA2-4242-A7F5-AD783221B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EF22F0-586A-4B0C-AB0B-D28FDC5E0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CAD7D4-224B-4192-A670-2525373FE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108822-6AA4-4D3E-ADCD-52DAD1773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036A1-0FF3-4A71-B2FD-D240D3052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955415-7746-47FD-A0C3-24CA1830B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C01622-B486-475C-87C8-5FD798048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A4BA92-9241-4BD0-8D0F-9E60A5A0B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57305B-70D1-4552-B907-DAE2A97DD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942298-EED4-45CA-81E6-14E8ED219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EACCC1-190F-4119-A374-AA9F0D8DC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CBA625-B4A6-4FC2-B332-1E86B5BD6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6BEF7E-5184-42AB-BBED-D0D008297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EE2BF1-BBE7-40B3-AD5B-6E9A5F7BA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B52324-ABE7-4F74-9A7E-9F7B11C55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2C8EB-F195-4BAA-AB99-D89DC453C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2B7629-4862-4169-AAE9-B595C9755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09A78B-4BED-4790-AF54-736D87803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8B7D06-5E1F-4E20-97BA-EBAF3709F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C3D602-8DB1-463C-A5DA-B31BCBC10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BF701F-13D7-4D25-A0B1-6AFF9F1BF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2A6DCA-5008-4041-B709-446670C3F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89E7FA-077D-4ED1-AB4A-2D1D17D24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48FBA4-E9B0-47DF-866F-B0D472123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70EE58-82E2-4D47-8720-460B1CFF8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CDEC92-FB7F-4F53-B01F-E1633B1B1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9B0B0-9AE1-4CD4-9C8D-AD71CAF05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4BD746-3AB1-4BBE-94DF-6E45E9E54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D2DD74-AC49-4333-A985-CBB143174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E20E47-78E9-4157-9513-D3402AFE9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43939D-7172-43A5-AEF2-A34B0F035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05F37D-E5A7-4283-90C6-CAA6851F0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37B4C5-54AD-4D1C-A0E3-C4597DF04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CF8F2F-325E-4769-B912-682CE814B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B8F4CA-0440-49CA-9224-214A5B048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51967A-CAE7-4660-A5F3-8910AD505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32C49F-F63E-4505-A071-25F8AB46A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3501D-CA85-45CC-B963-B38A96824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F82F6F-7C67-426C-9E96-8AF927A5D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4584F12-6680-4E71-8B57-63BEA231C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C1EB695-C2DD-4766-82F3-F0F0F28A3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1473D0B-5FA1-4FAC-AADE-89156A87D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4570CA3-23A9-48B2-932F-71E3B91AB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3C0F6BE-C604-4649-AA60-C23A6958B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5554638-BA35-4A5A-969B-9FD09C786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2197806-2D23-41BE-A5C3-2C87407C8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5309FEC-41DB-471E-8FD6-6EC33A3AA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D860070-E239-4EA0-BD01-1C8AFEEFF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119CF-BB9E-4146-A2D0-15958F11D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7B18E7C-3618-4AE7-B39D-03DB43E43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E866675-9323-4A21-BF26-0DEC1429B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401060A-3B7D-4C10-96D1-23346554E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8DB013-7854-42BB-AE73-E0592E486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49FCFD-BEEA-4620-9D24-8F9C3C81F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7411E5-5FDB-4D40-A30A-9E8876540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5C51B1-DC5D-499D-AC16-FB8A0BEF4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4ECF6F-33E6-4781-987A-DE00FC412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024224-B6DA-4C8A-8295-CF60BC6A3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11D953-A57E-4768-9703-CE2E10795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A562C-12D7-41DC-ACA7-5D7A4D103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CD8DD0-97BE-4A0E-9BE4-3468840C8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B6681F-E4FF-4EAF-95F5-99A85B972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4CE6B2-3294-46B4-BA3C-1F847FD71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0E8E8B-78D4-4119-A09C-CF298C59F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E7F578-6340-42B2-9CBC-B3BDB176D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34239E-E8B3-4845-9E0E-DBBA457AD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5D64F2-F2F2-4F3B-B8A2-932617E8A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660E8F-1144-4EAD-A4BC-98C9C6DEE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66394B-3AE8-4787-8E91-C405CAC97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6116D7-C845-4961-B969-3B819F45D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D0E9D-7851-4A6F-8391-6072701BF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62C18F-5D2A-4971-926D-61DFBB75D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ABBBB1-D3EB-44D2-A9B6-A58293FB6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B3B060-F9A1-4815-BAEB-1D93CA0AA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84300F-E2BB-455F-BBF5-D49B948C0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C25C5B-1164-4788-A4AC-C91BEB16F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7EF764-2318-4102-A013-A747BD5EE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800192-62B9-4B61-910E-A077F2D61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472766D-484C-4F30-B13B-238405CFA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D329F68-CF9A-4DBE-AE26-3BBBED8C8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4436BA5-B1CF-4B75-882D-0FF9F4E88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Garamond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Garamond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Garamond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Garamond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Garamond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Garamond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A9DC0-44A2-434D-AC48-90D891B64C8A}" type="slidenum">
              <a:rPr b="0" lang="en-US" sz="14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6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747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dt" idx="2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 type="sldNum" idx="3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5B7D5-F571-4820-B00A-A2816DC872DA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dt" idx="3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 type="sldNum" idx="3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CF310-CA79-4E1E-A895-463DBB3E805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81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81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sp>
          <p:nvSpPr>
            <p:cNvPr id="81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819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 type="ftr" idx="3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8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859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860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sp>
          <p:nvSpPr>
            <p:cNvPr id="865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 type="dt" idx="3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 type="ftr" idx="3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 type="sldNum" idx="3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C89B0-C066-41E1-A9EC-72E9F51E131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5CE39-83A5-47A3-A464-B4693B355586}" type="slidenum">
              <a:rPr b="0" lang="en-US" sz="14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9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350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358" name="PlaceHolder 1"/>
          <p:cNvSpPr>
            <a:spLocks noGrp="1"/>
          </p:cNvSpPr>
          <p:nvPr>
            <p:ph type="dt" idx="7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ftr" idx="8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sldNum" idx="9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C4DAD-4EC8-4A70-A6E9-BECDF34DF8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Garamond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9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400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Garamond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Garamond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 type="dt" idx="10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 type="ftr" idx="11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 type="sldNum" idx="12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72113-6D59-4A63-8FDA-203EB5511B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radley Hand ITC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radley Hand ITC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Bradley Hand ITC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Bradley Hand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radley Hand ITC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Bradley Hand ITC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radley Hand ITC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Bradley Hand ITC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Bradley Hand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radley Hand ITC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Bradley Hand ITC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radley Hand ITC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Bradley Hand ITC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radley Hand ITC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Bradley Hand ITC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radley Hand ITC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67840-F667-4BCE-A206-A4B752674A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radley Hand ITC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488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ftr" idx="1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 type="sldNum" idx="1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DFD5F-A3D7-40A8-AFD6-06C64E82B2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 type="dt" idx="1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8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529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grpSp>
          <p:nvGrpSpPr>
            <p:cNvPr id="532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33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sp>
          <p:nvSpPr>
            <p:cNvPr id="546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grpSp>
          <p:nvGrpSpPr>
            <p:cNvPr id="557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558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sp>
          <p:nvSpPr>
            <p:cNvPr id="563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dt" idx="1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2D390-40FF-4CDA-8256-035093BE36AB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6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607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grpSp>
          <p:nvGrpSpPr>
            <p:cNvPr id="610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611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sp>
          <p:nvSpPr>
            <p:cNvPr id="624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grpSp>
          <p:nvGrpSpPr>
            <p:cNvPr id="635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636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sp>
          <p:nvSpPr>
            <p:cNvPr id="641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 type="dt" idx="2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39B19-6BA9-4C70-85AB-29D6D33CB4E7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8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 type="ftr" idx="2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 type="sldNum" idx="2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D354C-EC00-431D-8582-94A8DF112B94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5"/>
          <p:cNvSpPr>
            <a:spLocks noGrp="1"/>
          </p:cNvSpPr>
          <p:nvPr>
            <p:ph type="dt" idx="2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9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2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7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"/>
          <p:cNvSpPr/>
          <p:nvPr/>
        </p:nvSpPr>
        <p:spPr>
          <a:xfrm>
            <a:off x="304920" y="1219320"/>
            <a:ext cx="6858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af273e"/>
                </a:solidFill>
                <a:latin typeface="Verdana"/>
              </a:rPr>
              <a:t>Mi vacacion en</a:t>
            </a:r>
            <a:endParaRPr b="0" lang="en-US" sz="48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af273e"/>
                </a:solidFill>
                <a:latin typeface="Verdana"/>
              </a:rPr>
              <a:t> </a:t>
            </a:r>
            <a:r>
              <a:rPr b="0" lang="en-US" sz="4800" spc="-1" strike="noStrike">
                <a:solidFill>
                  <a:srgbClr val="af273e"/>
                </a:solidFill>
                <a:latin typeface="Verdana"/>
              </a:rPr>
              <a:t>Ponce, puerto rico</a:t>
            </a:r>
            <a:endParaRPr b="0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>
            <a:off x="6194520" y="4908600"/>
            <a:ext cx="216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Verdana"/>
              </a:rPr>
              <a:t>By:Tatiana Tinsley 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909" name="" descr=""/>
          <p:cNvPicPr/>
          <p:nvPr/>
        </p:nvPicPr>
        <p:blipFill>
          <a:blip r:embed="rId1"/>
          <a:stretch/>
        </p:blipFill>
        <p:spPr>
          <a:xfrm>
            <a:off x="533520" y="3276720"/>
            <a:ext cx="3552840" cy="2504880"/>
          </a:xfrm>
          <a:prstGeom prst="rect">
            <a:avLst/>
          </a:prstGeom>
          <a:ln w="0">
            <a:noFill/>
          </a:ln>
        </p:spPr>
      </p:pic>
      <p:pic>
        <p:nvPicPr>
          <p:cNvPr id="910" name="" descr=""/>
          <p:cNvPicPr/>
          <p:nvPr/>
        </p:nvPicPr>
        <p:blipFill>
          <a:blip r:embed="rId2"/>
          <a:stretch/>
        </p:blipFill>
        <p:spPr>
          <a:xfrm>
            <a:off x="5943600" y="2590920"/>
            <a:ext cx="2738520" cy="219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Mi Hotel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819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radley Hand ITC"/>
              </a:rPr>
              <a:t>Hola mama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radley Hand ITC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radley Hand ITC"/>
              </a:rPr>
              <a:t>Hoy llego a mi hotel. Esta en Ponce, Puerto Rico. Esta muy bonita y grande. Tiene una domintorio grand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esos y abrazos 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ati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13" name="" descr=""/>
          <p:cNvPicPr/>
          <p:nvPr/>
        </p:nvPicPr>
        <p:blipFill>
          <a:blip r:embed="rId1"/>
          <a:stretch/>
        </p:blipFill>
        <p:spPr>
          <a:xfrm>
            <a:off x="3352680" y="1295280"/>
            <a:ext cx="5639040" cy="2271960"/>
          </a:xfrm>
          <a:prstGeom prst="rect">
            <a:avLst/>
          </a:prstGeom>
          <a:ln w="0">
            <a:noFill/>
          </a:ln>
        </p:spPr>
      </p:pic>
      <p:pic>
        <p:nvPicPr>
          <p:cNvPr id="914" name="" descr=""/>
          <p:cNvPicPr/>
          <p:nvPr/>
        </p:nvPicPr>
        <p:blipFill>
          <a:blip r:embed="rId2"/>
          <a:stretch/>
        </p:blipFill>
        <p:spPr>
          <a:xfrm>
            <a:off x="5810400" y="4629240"/>
            <a:ext cx="3333600" cy="2228760"/>
          </a:xfrm>
          <a:prstGeom prst="rect">
            <a:avLst/>
          </a:prstGeom>
          <a:ln w="0">
            <a:noFill/>
          </a:ln>
        </p:spPr>
      </p:pic>
      <p:pic>
        <p:nvPicPr>
          <p:cNvPr id="915" name="" descr=""/>
          <p:cNvPicPr/>
          <p:nvPr/>
        </p:nvPicPr>
        <p:blipFill>
          <a:blip r:embed="rId3"/>
          <a:stretch/>
        </p:blipFill>
        <p:spPr>
          <a:xfrm>
            <a:off x="3276720" y="3657600"/>
            <a:ext cx="2514600" cy="166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/>
          </p:nvPr>
        </p:nvSpPr>
        <p:spPr>
          <a:xfrm>
            <a:off x="1980720" y="-152640"/>
            <a:ext cx="487692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Querido Laura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y buen tiempo. La agua es muy bonita y 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caliente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Hoy yo fui bucar . yo neccesto una toalla playera. Yo mire mucho pescados. No mire una 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tiburón. Un fuerte abrazo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Tat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7" name="" descr="snorkeling in puerto rico"/>
          <p:cNvPicPr/>
          <p:nvPr/>
        </p:nvPicPr>
        <p:blipFill>
          <a:blip r:embed="rId1"/>
          <a:stretch/>
        </p:blipFill>
        <p:spPr>
          <a:xfrm rot="850200">
            <a:off x="6934320" y="151920"/>
            <a:ext cx="2209680" cy="1478160"/>
          </a:xfrm>
          <a:prstGeom prst="rect">
            <a:avLst/>
          </a:prstGeom>
          <a:ln w="0">
            <a:noFill/>
          </a:ln>
        </p:spPr>
      </p:pic>
      <p:pic>
        <p:nvPicPr>
          <p:cNvPr id="918" name="" descr="Dive 1"/>
          <p:cNvPicPr/>
          <p:nvPr/>
        </p:nvPicPr>
        <p:blipFill>
          <a:blip r:embed="rId2"/>
          <a:stretch/>
        </p:blipFill>
        <p:spPr>
          <a:xfrm>
            <a:off x="152280" y="152280"/>
            <a:ext cx="1714680" cy="1162080"/>
          </a:xfrm>
          <a:prstGeom prst="rect">
            <a:avLst/>
          </a:prstGeom>
          <a:ln w="0">
            <a:noFill/>
          </a:ln>
        </p:spPr>
      </p:pic>
      <p:pic>
        <p:nvPicPr>
          <p:cNvPr id="919" name="" descr="snorkeling 1"/>
          <p:cNvPicPr/>
          <p:nvPr/>
        </p:nvPicPr>
        <p:blipFill>
          <a:blip r:embed="rId3"/>
          <a:stretch/>
        </p:blipFill>
        <p:spPr>
          <a:xfrm>
            <a:off x="7238880" y="5334120"/>
            <a:ext cx="1714680" cy="1352520"/>
          </a:xfrm>
          <a:prstGeom prst="rect">
            <a:avLst/>
          </a:prstGeom>
          <a:ln w="0">
            <a:noFill/>
          </a:ln>
        </p:spPr>
      </p:pic>
      <p:pic>
        <p:nvPicPr>
          <p:cNvPr id="920" name="" descr="aqua adventure Puerto Rico"/>
          <p:cNvPicPr/>
          <p:nvPr/>
        </p:nvPicPr>
        <p:blipFill>
          <a:blip r:embed="rId4"/>
          <a:stretch/>
        </p:blipFill>
        <p:spPr>
          <a:xfrm rot="1098600">
            <a:off x="151920" y="5181120"/>
            <a:ext cx="2590920" cy="1274760"/>
          </a:xfrm>
          <a:prstGeom prst="rect">
            <a:avLst/>
          </a:prstGeom>
          <a:ln w="0">
            <a:noFill/>
          </a:ln>
        </p:spPr>
      </p:pic>
      <p:pic>
        <p:nvPicPr>
          <p:cNvPr id="921" name="" descr="snorkeling in puerto rico"/>
          <p:cNvPicPr/>
          <p:nvPr/>
        </p:nvPicPr>
        <p:blipFill>
          <a:blip r:embed="rId5"/>
          <a:stretch/>
        </p:blipFill>
        <p:spPr>
          <a:xfrm>
            <a:off x="3962520" y="5181480"/>
            <a:ext cx="1923840" cy="144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/>
          </p:nvPr>
        </p:nvSpPr>
        <p:spPr>
          <a:xfrm>
            <a:off x="0" y="456840"/>
            <a:ext cx="449568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radley Hand ITC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radley Hand ITC"/>
              </a:rPr>
              <a:t>Querida mama ,</a:t>
            </a:r>
            <a:endParaRPr b="0" lang="en-US" sz="2400" spc="-1" strike="noStrike">
              <a:solidFill>
                <a:srgbClr val="ffffff"/>
              </a:solidFill>
              <a:latin typeface="Bradley Hand ITC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radley Hand ITC"/>
              </a:rPr>
              <a:t>Ayer yo hable con un muchacho y  </a:t>
            </a:r>
            <a:r>
              <a:rPr b="0" lang="es-ES" sz="2400" spc="-1" strike="noStrike">
                <a:solidFill>
                  <a:srgbClr val="ffffff"/>
                </a:solidFill>
                <a:latin typeface="Bradley Hand ITC"/>
              </a:rPr>
              <a:t>más tarde nosotros fuimos la playa. Lo praticar el surf y yo nade. Entonces nosotros fuimos el esqui acuatico. Hoy nostoros fuimos tabla hawaiana y esquiar en el agua. Buen tiempo y el sol brilla . Yo necesto una el traje de bano y la toalla playera</a:t>
            </a:r>
            <a:r>
              <a:rPr b="0" lang="es-ES" sz="3200" spc="-1" strike="noStrike">
                <a:solidFill>
                  <a:srgbClr val="ffffff"/>
                </a:solidFill>
                <a:latin typeface="Bradley Hand ITC"/>
              </a:rPr>
              <a:t>. </a:t>
            </a:r>
            <a:r>
              <a:rPr b="0" lang="es-ES" sz="2400" spc="-1" strike="noStrike">
                <a:solidFill>
                  <a:srgbClr val="ffffff"/>
                </a:solidFill>
                <a:latin typeface="Bradley Hand ITC"/>
              </a:rPr>
              <a:t>Más tarde nosotros compramos ropa para la fiesta mañana.</a:t>
            </a:r>
            <a:endParaRPr b="0" lang="en-US" sz="2400" spc="-1" strike="noStrike">
              <a:solidFill>
                <a:srgbClr val="ffffff"/>
              </a:solidFill>
              <a:latin typeface="Bradley Hand ITC"/>
            </a:endParaRPr>
          </a:p>
          <a:p>
            <a:pPr marL="335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Bradley Hand ITC"/>
              </a:rPr>
              <a:t>Besos y abrazos</a:t>
            </a:r>
            <a:r>
              <a:rPr b="0" lang="en-US" sz="3200" spc="-1" strike="noStrike">
                <a:solidFill>
                  <a:srgbClr val="ffffff"/>
                </a:solidFill>
                <a:latin typeface="Bradley Hand ITC"/>
              </a:rPr>
              <a:t> , </a:t>
            </a:r>
            <a:endParaRPr b="0" lang="en-US" sz="3200" spc="-1" strike="noStrike">
              <a:solidFill>
                <a:srgbClr val="ffffff"/>
              </a:solidFill>
              <a:latin typeface="Bradley Hand ITC"/>
            </a:endParaRPr>
          </a:p>
          <a:p>
            <a:pPr marL="335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radley Hand ITC"/>
              </a:rPr>
              <a:t>Tati </a:t>
            </a:r>
            <a:endParaRPr b="0" lang="en-US" sz="3200" spc="-1" strike="noStrike">
              <a:solidFill>
                <a:srgbClr val="ffffff"/>
              </a:solidFill>
              <a:latin typeface="Bradley Hand ITC"/>
            </a:endParaRPr>
          </a:p>
        </p:txBody>
      </p:sp>
      <p:pic>
        <p:nvPicPr>
          <p:cNvPr id="923" name="" descr=""/>
          <p:cNvPicPr/>
          <p:nvPr/>
        </p:nvPicPr>
        <p:blipFill>
          <a:blip r:embed="rId2"/>
          <a:stretch/>
        </p:blipFill>
        <p:spPr>
          <a:xfrm>
            <a:off x="4952880" y="1371600"/>
            <a:ext cx="3953160" cy="3162240"/>
          </a:xfrm>
          <a:prstGeom prst="rect">
            <a:avLst/>
          </a:prstGeom>
          <a:ln w="0">
            <a:noFill/>
          </a:ln>
        </p:spPr>
      </p:pic>
      <p:pic>
        <p:nvPicPr>
          <p:cNvPr id="924" name="" descr=""/>
          <p:cNvPicPr/>
          <p:nvPr/>
        </p:nvPicPr>
        <p:blipFill>
          <a:blip r:embed="rId3"/>
          <a:stretch/>
        </p:blipFill>
        <p:spPr>
          <a:xfrm>
            <a:off x="6172200" y="4724280"/>
            <a:ext cx="2695680" cy="1695600"/>
          </a:xfrm>
          <a:prstGeom prst="rect">
            <a:avLst/>
          </a:prstGeom>
          <a:ln w="0">
            <a:noFill/>
          </a:ln>
        </p:spPr>
      </p:pic>
      <p:sp>
        <p:nvSpPr>
          <p:cNvPr id="925" name=""/>
          <p:cNvSpPr/>
          <p:nvPr/>
        </p:nvSpPr>
        <p:spPr>
          <a:xfrm>
            <a:off x="1299600" y="4724280"/>
            <a:ext cx="131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128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/>
          </p:nvPr>
        </p:nvSpPr>
        <p:spPr>
          <a:xfrm>
            <a:off x="0" y="609480"/>
            <a:ext cx="4191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lvl="2" marL="108576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Querida mama,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marL="108576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Hoy buen tiempo. Yo relajé. Mire television mucho. Entonces, fui a la casa de mi amigo y nosotros nadamos en la piscina. Antes de nadar,  compramos y gastamos mucho dinero  Más tarde mi amigo y yo fuimos a la fiesta y nosotros bailamos mucho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Garamond"/>
              </a:rPr>
              <a:t>Un fuerte abrazo,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Garamond"/>
              </a:rPr>
              <a:t>Tati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27" name="" descr=""/>
          <p:cNvPicPr/>
          <p:nvPr/>
        </p:nvPicPr>
        <p:blipFill>
          <a:blip r:embed="rId1"/>
          <a:stretch/>
        </p:blipFill>
        <p:spPr>
          <a:xfrm>
            <a:off x="4419720" y="457200"/>
            <a:ext cx="3952800" cy="2943360"/>
          </a:xfrm>
          <a:prstGeom prst="rect">
            <a:avLst/>
          </a:prstGeom>
          <a:ln w="0">
            <a:noFill/>
          </a:ln>
        </p:spPr>
      </p:pic>
      <p:pic>
        <p:nvPicPr>
          <p:cNvPr id="928" name="" descr=""/>
          <p:cNvPicPr/>
          <p:nvPr/>
        </p:nvPicPr>
        <p:blipFill>
          <a:blip r:embed="rId2"/>
          <a:stretch/>
        </p:blipFill>
        <p:spPr>
          <a:xfrm rot="1129200">
            <a:off x="5867280" y="2666880"/>
            <a:ext cx="2857680" cy="2076480"/>
          </a:xfrm>
          <a:prstGeom prst="rect">
            <a:avLst/>
          </a:prstGeom>
          <a:ln w="0">
            <a:noFill/>
          </a:ln>
        </p:spPr>
      </p:pic>
      <p:pic>
        <p:nvPicPr>
          <p:cNvPr id="929" name="" descr=""/>
          <p:cNvPicPr/>
          <p:nvPr/>
        </p:nvPicPr>
        <p:blipFill>
          <a:blip r:embed="rId3"/>
          <a:stretch/>
        </p:blipFill>
        <p:spPr>
          <a:xfrm>
            <a:off x="3581280" y="3809880"/>
            <a:ext cx="2514600" cy="2202120"/>
          </a:xfrm>
          <a:prstGeom prst="rect">
            <a:avLst/>
          </a:prstGeom>
          <a:ln w="0">
            <a:noFill/>
          </a:ln>
        </p:spPr>
      </p:pic>
      <p:pic>
        <p:nvPicPr>
          <p:cNvPr id="930" name="" descr=""/>
          <p:cNvPicPr/>
          <p:nvPr/>
        </p:nvPicPr>
        <p:blipFill>
          <a:blip r:embed="rId4"/>
          <a:stretch/>
        </p:blipFill>
        <p:spPr>
          <a:xfrm>
            <a:off x="6305400" y="4729320"/>
            <a:ext cx="2838600" cy="2128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/>
          </p:nvPr>
        </p:nvSpPr>
        <p:spPr>
          <a:xfrm>
            <a:off x="-360" y="-360"/>
            <a:ext cx="335268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Bradley Hand ITC"/>
              </a:rPr>
              <a:t>Querido Laura, </a:t>
            </a:r>
            <a:endParaRPr b="0" lang="en-US" sz="2800" spc="-1" strike="noStrike">
              <a:solidFill>
                <a:srgbClr val="ffffff"/>
              </a:solidFill>
              <a:latin typeface="Bradley Hand ITC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radley Hand ITC"/>
              </a:rPr>
              <a:t>Hoy fui la playa </a:t>
            </a:r>
            <a:r>
              <a:rPr b="0" lang="es-ES" sz="2800" spc="-1" strike="noStrike">
                <a:solidFill>
                  <a:srgbClr val="ffffff"/>
                </a:solidFill>
                <a:latin typeface="Bradley Hand ITC"/>
              </a:rPr>
              <a:t>otra vez</a:t>
            </a:r>
            <a:r>
              <a:rPr b="0" lang="en-US" sz="2800" spc="-1" strike="noStrike">
                <a:solidFill>
                  <a:srgbClr val="ffffff"/>
                </a:solidFill>
                <a:latin typeface="Bradley Hand ITC"/>
              </a:rPr>
              <a:t> . Necesto una toalla de playa , grafas de sol, y crema protectora. Hace calor y hace sol. Mi amigo nadar y yo tomar el sol.</a:t>
            </a:r>
            <a:endParaRPr b="0" lang="en-US" sz="2800" spc="-1" strike="noStrike">
              <a:solidFill>
                <a:srgbClr val="ffffff"/>
              </a:solidFill>
              <a:latin typeface="Bradley Hand ITC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radley Hand ITC"/>
              </a:rPr>
              <a:t> </a:t>
            </a:r>
            <a:r>
              <a:rPr b="1" i="1" lang="en-US" sz="2800" spc="-1" strike="noStrike">
                <a:solidFill>
                  <a:srgbClr val="ffffff"/>
                </a:solidFill>
                <a:latin typeface="Bradley Hand ITC"/>
              </a:rPr>
              <a:t>Cariñosos saludos</a:t>
            </a:r>
            <a:r>
              <a:rPr b="0" lang="en-US" sz="2800" spc="-1" strike="noStrike">
                <a:solidFill>
                  <a:srgbClr val="ffffff"/>
                </a:solidFill>
                <a:latin typeface="Bradley Hand ITC"/>
              </a:rPr>
              <a:t> ,</a:t>
            </a:r>
            <a:endParaRPr b="0" lang="en-US" sz="2800" spc="-1" strike="noStrike">
              <a:solidFill>
                <a:srgbClr val="ffffff"/>
              </a:solidFill>
              <a:latin typeface="Bradley Hand ITC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radley Hand ITC"/>
              </a:rPr>
              <a:t>Tati</a:t>
            </a:r>
            <a:endParaRPr b="0" lang="en-US" sz="2800" spc="-1" strike="noStrike">
              <a:solidFill>
                <a:srgbClr val="ffffff"/>
              </a:solidFill>
              <a:latin typeface="Bradley Hand ITC"/>
            </a:endParaRPr>
          </a:p>
        </p:txBody>
      </p:sp>
      <p:pic>
        <p:nvPicPr>
          <p:cNvPr id="932" name="" descr=""/>
          <p:cNvPicPr/>
          <p:nvPr/>
        </p:nvPicPr>
        <p:blipFill>
          <a:blip r:embed="rId2"/>
          <a:stretch/>
        </p:blipFill>
        <p:spPr>
          <a:xfrm>
            <a:off x="4648320" y="0"/>
            <a:ext cx="4495680" cy="33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-363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380520" y="0"/>
            <a:ext cx="3429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Querido Laura,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Hoy llueve . Yo fui a jugar al tenis. En  la cancha de tenis cubierta. Necesito un raqueta, pelota y red. Yo jugué  singles.  Yo golpeé  el pelota. Yo gané. Más tarde jugué baloncesto con mi amigo Jaun.  Yo pasé el pelota a mi amigo y lo dribló y entonces lo marcó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Un fuerte abrazo,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Tati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935" name="" descr=""/>
          <p:cNvPicPr/>
          <p:nvPr/>
        </p:nvPicPr>
        <p:blipFill>
          <a:blip r:embed="rId1"/>
          <a:stretch/>
        </p:blipFill>
        <p:spPr>
          <a:xfrm rot="1407600">
            <a:off x="5334120" y="609120"/>
            <a:ext cx="3371760" cy="2495520"/>
          </a:xfrm>
          <a:prstGeom prst="rect">
            <a:avLst/>
          </a:prstGeom>
          <a:ln w="0">
            <a:noFill/>
          </a:ln>
        </p:spPr>
      </p:pic>
      <p:pic>
        <p:nvPicPr>
          <p:cNvPr id="936" name="" descr=""/>
          <p:cNvPicPr/>
          <p:nvPr/>
        </p:nvPicPr>
        <p:blipFill>
          <a:blip r:embed="rId2"/>
          <a:stretch/>
        </p:blipFill>
        <p:spPr>
          <a:xfrm rot="20614200">
            <a:off x="4038480" y="2819160"/>
            <a:ext cx="2981520" cy="2342880"/>
          </a:xfrm>
          <a:prstGeom prst="rect">
            <a:avLst/>
          </a:prstGeom>
          <a:ln w="0">
            <a:noFill/>
          </a:ln>
        </p:spPr>
      </p:pic>
      <p:pic>
        <p:nvPicPr>
          <p:cNvPr id="937" name="" descr=""/>
          <p:cNvPicPr/>
          <p:nvPr/>
        </p:nvPicPr>
        <p:blipFill>
          <a:blip r:embed="rId3"/>
          <a:stretch/>
        </p:blipFill>
        <p:spPr>
          <a:xfrm>
            <a:off x="6629400" y="4648320"/>
            <a:ext cx="2324160" cy="18669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/>
          </p:nvPr>
        </p:nvSpPr>
        <p:spPr>
          <a:xfrm>
            <a:off x="0" y="0"/>
            <a:ext cx="3657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ff"/>
                </a:solidFill>
                <a:latin typeface="Tahoma"/>
              </a:rPr>
              <a:t>Querido Laura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ff"/>
                </a:solidFill>
                <a:latin typeface="Tahoma"/>
              </a:rPr>
              <a:t>Hoy  preparé ir a mi casa. Que estaba bien aquí. El muchachos son bueno . Fuí a compras otra vez. Entonces yo fuí a mi sala a demas. Yo no fui visté un museo, quizás la próxima vez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ff"/>
                </a:solidFill>
                <a:latin typeface="Tahoma"/>
              </a:rPr>
              <a:t>Adios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ff"/>
                </a:solidFill>
                <a:latin typeface="Tahoma"/>
              </a:rPr>
              <a:t>Tati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9" name="" descr=""/>
          <p:cNvPicPr/>
          <p:nvPr/>
        </p:nvPicPr>
        <p:blipFill>
          <a:blip r:embed="rId1"/>
          <a:stretch/>
        </p:blipFill>
        <p:spPr>
          <a:xfrm>
            <a:off x="4952880" y="533520"/>
            <a:ext cx="3810240" cy="30477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8T16:40:33Z</dcterms:created>
  <dc:creator>tinsleybusbytat</dc:creator>
  <dc:description/>
  <dc:language>en-US</dc:language>
  <cp:lastModifiedBy>tinsleybusbytat</cp:lastModifiedBy>
  <dcterms:modified xsi:type="dcterms:W3CDTF">2011-11-30T17:02:34Z</dcterms:modified>
  <cp:revision>12</cp:revision>
  <dc:subject/>
  <dc:title>Slide 1</dc:title>
</cp:coreProperties>
</file>